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18B-324F-46A2-9E26-70607746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0CC-8C76-4A73-BCD7-BD02797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824-BC64-49C9-806F-52FDE081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13D-B7B4-4E80-84DC-291CA722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B25-838E-4A44-9947-9C3A7BE8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A13-B393-48A9-A723-D5EC1BDF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AC9-13C4-47AD-8477-F684384C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892-79C6-496E-82DE-1D4EF1D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775-1B9B-4A9A-85B2-DADCDFF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2A3-8783-4131-9E12-77B020F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B5D-9D06-4392-8012-9B801D2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81D-8226-40FC-B300-B71CA19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DA5-A1A9-4809-8ED8-F61D35AC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portrait-age-eleven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growing-up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choate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43.tower.com/images/mm100359423/cuban-missile-crisis-e-j-carter-hardcover-cover-art.jpg&amp;imgrefurl=http://www.tower.com/cuban-missile-crisis-e-j-carter-hardcover/wapi/100359423&amp;usg=__khcsEQyIir7wadfKhgPssCA0hGE=&amp;h=254&amp;w=188&amp;sz=13&amp;hl=en&amp;start=159&amp;zoom=0&amp;tbnid=9ArHS_NOXWWcaM:&amp;tbnh=111&amp;tbnw=82&amp;ei=8nXITeTCNuXM0AGwr5y6BA&amp;prev=/search%3Fq%3DThe%2BMissile%2BCrisis%26hl%3Den%26sa%3DX%26biw%3D1003%26bih%3D588%26tbm%3Disch&amp;itbs=1&amp;iact=rc&amp;dur=31&amp;page=12&amp;ndsp=15&amp;ved=1t:429,r:11,s:159&amp;tx=28&amp;ty=9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5jk_header%5B1%5D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211720" cy="293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love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magesCAYWMS3V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393920" cy="1817640"/>
          </a:xfrm>
          <a:prstGeom prst="rect">
            <a:avLst/>
          </a:prstGeom>
          <a:ln w="0">
            <a:noFill/>
          </a:ln>
        </p:spPr>
      </p:pic>
      <p:pic>
        <p:nvPicPr>
          <p:cNvPr id="79" name="imagesCAZBRJFO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28796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is%5B1%5D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63368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is%5B2%5D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is%5B3%5D" descr=""/>
          <p:cNvPicPr/>
          <p:nvPr/>
        </p:nvPicPr>
        <p:blipFill>
          <a:blip r:embed="rId5"/>
          <a:stretch/>
        </p:blipFill>
        <p:spPr>
          <a:xfrm>
            <a:off x="3332160" y="4191120"/>
            <a:ext cx="19130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is%5B4%5D" descr=""/>
          <p:cNvPicPr/>
          <p:nvPr/>
        </p:nvPicPr>
        <p:blipFill>
          <a:blip r:embed="rId6"/>
          <a:stretch/>
        </p:blipFill>
        <p:spPr>
          <a:xfrm>
            <a:off x="6172200" y="4572000"/>
            <a:ext cx="162576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ck’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ohn’s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h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was a very handsome little bo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liked to dare his brother J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did terrible in school. He got bad grades and didn’t follow the ru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-early-portrait-age-eleve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30720" y="1981080"/>
            <a:ext cx="2844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ing To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in high school Jack played foot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competed on the swimming te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-early-growing-u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76520"/>
            <a:ext cx="3057480" cy="44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went to Harvard Univers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orked hard in colle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he graduated he graduated with hon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-early-choat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81080"/>
            <a:ext cx="4343400" cy="30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In The Na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’s job was to look for enemy destroy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nd his crew’s boat was PT- 1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ight they got hit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nkfully their crew eventually found resc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0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600200"/>
            <a:ext cx="354492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Marr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got married to a woman named Jack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s very beautiful and sma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en had four kids but only two survived inf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s%5B5%5D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nnedy’s Presid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ran for president in 196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elec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his family moved to the white ho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took some pets to the white house with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sCAR41POO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32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nnedy’s Dea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went to Dallas , Texas and was shot t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mourned over his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be a life well remembe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74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10200" cy="280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28px-John_F_Kennedy_Signature_2.svg%5B1%5D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28600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imagesCA3H4F6B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427480" cy="1817640"/>
          </a:xfrm>
          <a:prstGeom prst="rect">
            <a:avLst/>
          </a:prstGeom>
          <a:ln w="0">
            <a:noFill/>
          </a:ln>
        </p:spPr>
      </p:pic>
      <p:pic>
        <p:nvPicPr>
          <p:cNvPr id="72" name="imagesCABAFXWB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imagesCACTBSPZ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2324160" cy="1395360"/>
          </a:xfrm>
          <a:prstGeom prst="rect">
            <a:avLst/>
          </a:prstGeom>
          <a:ln w="0">
            <a:noFill/>
          </a:ln>
        </p:spPr>
      </p:pic>
      <p:pic>
        <p:nvPicPr>
          <p:cNvPr id="74" name="imagesCAMBQBVF" descr=""/>
          <p:cNvPicPr/>
          <p:nvPr/>
        </p:nvPicPr>
        <p:blipFill>
          <a:blip r:embed="rId5"/>
          <a:stretch/>
        </p:blipFill>
        <p:spPr>
          <a:xfrm>
            <a:off x="5943600" y="533520"/>
            <a:ext cx="2536920" cy="2593800"/>
          </a:xfrm>
          <a:prstGeom prst="rect">
            <a:avLst/>
          </a:prstGeom>
          <a:ln w="0">
            <a:noFill/>
          </a:ln>
        </p:spPr>
      </p:pic>
      <p:pic>
        <p:nvPicPr>
          <p:cNvPr id="75" name="imagesCASAFBVL" descr=""/>
          <p:cNvPicPr/>
          <p:nvPr/>
        </p:nvPicPr>
        <p:blipFill>
          <a:blip r:embed="rId6"/>
          <a:stretch/>
        </p:blipFill>
        <p:spPr>
          <a:xfrm>
            <a:off x="3429000" y="350532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76" name="imagesCAWSAL1V" descr=""/>
          <p:cNvPicPr/>
          <p:nvPr/>
        </p:nvPicPr>
        <p:blipFill>
          <a:blip r:embed="rId7"/>
          <a:stretch/>
        </p:blipFill>
        <p:spPr>
          <a:xfrm>
            <a:off x="6248520" y="3505320"/>
            <a:ext cx="1417680" cy="179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22:22:19Z</dcterms:created>
  <dc:creator>Al</dc:creator>
  <dc:description/>
  <dc:language>en-US</dc:language>
  <cp:lastModifiedBy>Al</cp:lastModifiedBy>
  <dcterms:modified xsi:type="dcterms:W3CDTF">2011-05-10T22:17:42Z</dcterms:modified>
  <cp:revision>1</cp:revision>
  <dc:subject/>
  <dc:title>John F. Kennedy</dc:title>
</cp:coreProperties>
</file>